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4F7-FEE9-4E48-85AB-720C3DA5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3D3-D0E9-4B5A-8B0E-3EEA7B8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637-310F-42ED-8C1F-48045D00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7B0-AB70-4266-82AC-A3FF00C8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C91-1A20-4802-B8FE-898E176D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B92-6360-43F1-90D8-8B38D37B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241-22A6-48A5-B495-F336416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741-801A-48EA-93C0-3DFD957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77C-6715-43E7-9919-46651C8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928-565A-453E-B079-1BF3917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B84-09EC-4233-9515-99FEEA69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281-20A5-4A89-8FA3-DB8F6E8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0C61-2F8B-4F85-BB71-825AB361CB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1593360" y="1960560"/>
            <a:ext cx="3540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的乘法口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9"/>
          <p:cNvSpPr/>
          <p:nvPr/>
        </p:nvSpPr>
        <p:spPr>
          <a:xfrm>
            <a:off x="1116000" y="2781360"/>
            <a:ext cx="70056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1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×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4732200" y="2787480"/>
            <a:ext cx="774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2270160" y="3886200"/>
            <a:ext cx="57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7209000" y="2787480"/>
            <a:ext cx="814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4732200" y="3870360"/>
            <a:ext cx="82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2271600" y="2790720"/>
            <a:ext cx="744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7207200" y="3879720"/>
            <a:ext cx="851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92040" y="1619280"/>
            <a:ext cx="475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说口诀算得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9"/>
          <p:cNvSpPr/>
          <p:nvPr/>
        </p:nvSpPr>
        <p:spPr>
          <a:xfrm>
            <a:off x="1187280" y="2708280"/>
            <a:ext cx="7488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×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5           5×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5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5           5×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4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0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×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92040" y="1619280"/>
            <a:ext cx="5692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根据口诀，填一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913360" y="3008160"/>
            <a:ext cx="542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925960" y="3906720"/>
            <a:ext cx="52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549440" y="3927600"/>
            <a:ext cx="689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2265480" y="2997360"/>
            <a:ext cx="512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5286240" y="4830840"/>
            <a:ext cx="614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1665360" y="4840200"/>
            <a:ext cx="542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1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1070640" y="1619280"/>
            <a:ext cx="2098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2050920" y="3141720"/>
            <a:ext cx="43344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2"/>
          <p:cNvGrpSpPr/>
          <p:nvPr/>
        </p:nvGrpSpPr>
        <p:grpSpPr>
          <a:xfrm>
            <a:off x="1258920" y="3933720"/>
            <a:ext cx="1942560" cy="936720"/>
            <a:chOff x="1258920" y="3933720"/>
            <a:chExt cx="1942560" cy="936720"/>
          </a:xfrm>
        </p:grpSpPr>
        <p:grpSp>
          <p:nvGrpSpPr>
            <p:cNvPr id="69" name="Group 15"/>
            <p:cNvGrpSpPr/>
            <p:nvPr/>
          </p:nvGrpSpPr>
          <p:grpSpPr>
            <a:xfrm>
              <a:off x="1258920" y="3933720"/>
              <a:ext cx="647280" cy="936720"/>
              <a:chOff x="1258920" y="3933720"/>
              <a:chExt cx="647280" cy="936720"/>
            </a:xfrm>
          </p:grpSpPr>
          <p:pic>
            <p:nvPicPr>
              <p:cNvPr id="70" name="Picture 13" descr="201101220907121336"/>
              <p:cNvPicPr/>
              <p:nvPr/>
            </p:nvPicPr>
            <p:blipFill>
              <a:blip r:embed="rId1"/>
              <a:srcRect l="34212" t="7668" r="1746" b="0"/>
              <a:stretch/>
            </p:blipFill>
            <p:spPr>
              <a:xfrm>
                <a:off x="1258920" y="393372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Rectangle 14"/>
              <p:cNvSpPr/>
              <p:nvPr/>
            </p:nvSpPr>
            <p:spPr>
              <a:xfrm>
                <a:off x="125892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6"/>
            <p:cNvGrpSpPr/>
            <p:nvPr/>
          </p:nvGrpSpPr>
          <p:grpSpPr>
            <a:xfrm>
              <a:off x="1906200" y="3933720"/>
              <a:ext cx="647280" cy="936720"/>
              <a:chOff x="1906200" y="3933720"/>
              <a:chExt cx="647280" cy="936720"/>
            </a:xfrm>
          </p:grpSpPr>
          <p:pic>
            <p:nvPicPr>
              <p:cNvPr id="73" name="Picture 17" descr="201101220907121336"/>
              <p:cNvPicPr/>
              <p:nvPr/>
            </p:nvPicPr>
            <p:blipFill>
              <a:blip r:embed="rId2"/>
              <a:srcRect l="34212" t="7668" r="1746" b="0"/>
              <a:stretch/>
            </p:blipFill>
            <p:spPr>
              <a:xfrm>
                <a:off x="1906200" y="393372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Rectangle 18"/>
              <p:cNvSpPr/>
              <p:nvPr/>
            </p:nvSpPr>
            <p:spPr>
              <a:xfrm>
                <a:off x="190620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9"/>
            <p:cNvGrpSpPr/>
            <p:nvPr/>
          </p:nvGrpSpPr>
          <p:grpSpPr>
            <a:xfrm>
              <a:off x="2553840" y="3933720"/>
              <a:ext cx="647640" cy="936720"/>
              <a:chOff x="2553840" y="3933720"/>
              <a:chExt cx="647640" cy="936720"/>
            </a:xfrm>
          </p:grpSpPr>
          <p:pic>
            <p:nvPicPr>
              <p:cNvPr id="76" name="Picture 20" descr="201101220907121336"/>
              <p:cNvPicPr/>
              <p:nvPr/>
            </p:nvPicPr>
            <p:blipFill>
              <a:blip r:embed="rId3"/>
              <a:srcRect l="34212" t="7668" r="1746" b="0"/>
              <a:stretch/>
            </p:blipFill>
            <p:spPr>
              <a:xfrm>
                <a:off x="2553840" y="3933720"/>
                <a:ext cx="6476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Rectangle 21"/>
              <p:cNvSpPr/>
              <p:nvPr/>
            </p:nvSpPr>
            <p:spPr>
              <a:xfrm>
                <a:off x="2553840" y="452376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23"/>
          <p:cNvGrpSpPr/>
          <p:nvPr/>
        </p:nvGrpSpPr>
        <p:grpSpPr>
          <a:xfrm>
            <a:off x="1428840" y="5003640"/>
            <a:ext cx="1942560" cy="936720"/>
            <a:chOff x="1428840" y="5003640"/>
            <a:chExt cx="1942560" cy="936720"/>
          </a:xfrm>
        </p:grpSpPr>
        <p:grpSp>
          <p:nvGrpSpPr>
            <p:cNvPr id="79" name="Group 24"/>
            <p:cNvGrpSpPr/>
            <p:nvPr/>
          </p:nvGrpSpPr>
          <p:grpSpPr>
            <a:xfrm>
              <a:off x="1428840" y="5003640"/>
              <a:ext cx="647280" cy="936720"/>
              <a:chOff x="1428840" y="5003640"/>
              <a:chExt cx="647280" cy="936720"/>
            </a:xfrm>
          </p:grpSpPr>
          <p:pic>
            <p:nvPicPr>
              <p:cNvPr id="80" name="Picture 25" descr="201101220907121336"/>
              <p:cNvPicPr/>
              <p:nvPr/>
            </p:nvPicPr>
            <p:blipFill>
              <a:blip r:embed="rId4"/>
              <a:srcRect l="34212" t="7668" r="1746" b="0"/>
              <a:stretch/>
            </p:blipFill>
            <p:spPr>
              <a:xfrm>
                <a:off x="1428840" y="500364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Rectangle 26"/>
              <p:cNvSpPr/>
              <p:nvPr/>
            </p:nvSpPr>
            <p:spPr>
              <a:xfrm>
                <a:off x="142884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27"/>
            <p:cNvGrpSpPr/>
            <p:nvPr/>
          </p:nvGrpSpPr>
          <p:grpSpPr>
            <a:xfrm>
              <a:off x="2076120" y="5003640"/>
              <a:ext cx="647280" cy="936720"/>
              <a:chOff x="2076120" y="5003640"/>
              <a:chExt cx="647280" cy="936720"/>
            </a:xfrm>
          </p:grpSpPr>
          <p:pic>
            <p:nvPicPr>
              <p:cNvPr id="83" name="Picture 28" descr="201101220907121336"/>
              <p:cNvPicPr/>
              <p:nvPr/>
            </p:nvPicPr>
            <p:blipFill>
              <a:blip r:embed="rId5"/>
              <a:srcRect l="34212" t="7668" r="1746" b="0"/>
              <a:stretch/>
            </p:blipFill>
            <p:spPr>
              <a:xfrm>
                <a:off x="2076120" y="5003640"/>
                <a:ext cx="64728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Rectangle 29"/>
              <p:cNvSpPr/>
              <p:nvPr/>
            </p:nvSpPr>
            <p:spPr>
              <a:xfrm>
                <a:off x="207612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0"/>
            <p:cNvGrpSpPr/>
            <p:nvPr/>
          </p:nvGrpSpPr>
          <p:grpSpPr>
            <a:xfrm>
              <a:off x="2723760" y="5003640"/>
              <a:ext cx="647640" cy="936720"/>
              <a:chOff x="2723760" y="5003640"/>
              <a:chExt cx="647640" cy="936720"/>
            </a:xfrm>
          </p:grpSpPr>
          <p:pic>
            <p:nvPicPr>
              <p:cNvPr id="86" name="Picture 31" descr="201101220907121336"/>
              <p:cNvPicPr/>
              <p:nvPr/>
            </p:nvPicPr>
            <p:blipFill>
              <a:blip r:embed="rId6"/>
              <a:srcRect l="34212" t="7668" r="1746" b="0"/>
              <a:stretch/>
            </p:blipFill>
            <p:spPr>
              <a:xfrm>
                <a:off x="2723760" y="5003640"/>
                <a:ext cx="647640" cy="9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Rectangle 32"/>
              <p:cNvSpPr/>
              <p:nvPr/>
            </p:nvSpPr>
            <p:spPr>
              <a:xfrm>
                <a:off x="2723760" y="5593680"/>
                <a:ext cx="101160" cy="305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Group 33"/>
          <p:cNvGrpSpPr/>
          <p:nvPr/>
        </p:nvGrpSpPr>
        <p:grpSpPr>
          <a:xfrm>
            <a:off x="2627280" y="1700280"/>
            <a:ext cx="5327280" cy="2571480"/>
            <a:chOff x="2627280" y="1700280"/>
            <a:chExt cx="5327280" cy="2571480"/>
          </a:xfrm>
        </p:grpSpPr>
        <p:pic>
          <p:nvPicPr>
            <p:cNvPr id="89" name="Picture 31" descr="20"/>
            <p:cNvPicPr/>
            <p:nvPr/>
          </p:nvPicPr>
          <p:blipFill>
            <a:blip r:embed="rId7"/>
            <a:stretch/>
          </p:blipFill>
          <p:spPr>
            <a:xfrm>
              <a:off x="5794200" y="1700280"/>
              <a:ext cx="216036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AutoShape 32"/>
            <p:cNvSpPr/>
            <p:nvPr/>
          </p:nvSpPr>
          <p:spPr>
            <a:xfrm>
              <a:off x="2627280" y="2492280"/>
              <a:ext cx="3600360" cy="456840"/>
            </a:xfrm>
            <a:prstGeom prst="wedgeRoundRectCallout">
              <a:avLst>
                <a:gd name="adj1" fmla="val 57268"/>
                <a:gd name="adj2" fmla="val 49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算杯子和灯各有多少个？ 试着编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法口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34" descr="24"/>
          <p:cNvPicPr/>
          <p:nvPr/>
        </p:nvPicPr>
        <p:blipFill>
          <a:blip r:embed="rId8"/>
          <a:stretch/>
        </p:blipFill>
        <p:spPr>
          <a:xfrm>
            <a:off x="4427640" y="3933720"/>
            <a:ext cx="3600360" cy="1967040"/>
          </a:xfrm>
          <a:prstGeom prst="rect">
            <a:avLst/>
          </a:prstGeom>
          <a:ln w="0">
            <a:noFill/>
          </a:ln>
        </p:spPr>
      </p:pic>
      <p:sp>
        <p:nvSpPr>
          <p:cNvPr id="92" name="矩形 28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学习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918360" y="1619280"/>
            <a:ext cx="2403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4932360" y="1268280"/>
            <a:ext cx="4105440" cy="3364200"/>
            <a:chOff x="4932360" y="1268280"/>
            <a:chExt cx="4105440" cy="3364200"/>
          </a:xfrm>
        </p:grpSpPr>
        <p:pic>
          <p:nvPicPr>
            <p:cNvPr id="96" name="Picture 13" descr="20"/>
            <p:cNvPicPr/>
            <p:nvPr/>
          </p:nvPicPr>
          <p:blipFill>
            <a:blip r:embed="rId1"/>
            <a:stretch/>
          </p:blipFill>
          <p:spPr>
            <a:xfrm>
              <a:off x="6877080" y="2060640"/>
              <a:ext cx="21607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AutoShape 14"/>
            <p:cNvSpPr/>
            <p:nvPr/>
          </p:nvSpPr>
          <p:spPr>
            <a:xfrm>
              <a:off x="4932360" y="1268280"/>
              <a:ext cx="3600360" cy="456840"/>
            </a:xfrm>
            <a:prstGeom prst="wedgeRoundRectCallout">
              <a:avLst>
                <a:gd name="adj1" fmla="val 29750"/>
                <a:gd name="adj2" fmla="val 180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请你照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法口诀，自己举例编出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法口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15" descr="54-1"/>
          <p:cNvPicPr/>
          <p:nvPr/>
        </p:nvPicPr>
        <p:blipFill>
          <a:blip r:embed="rId2"/>
          <a:stretch/>
        </p:blipFill>
        <p:spPr>
          <a:xfrm>
            <a:off x="1185840" y="4957920"/>
            <a:ext cx="5403960" cy="149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54-2"/>
          <p:cNvPicPr/>
          <p:nvPr/>
        </p:nvPicPr>
        <p:blipFill>
          <a:blip r:embed="rId3"/>
          <a:stretch/>
        </p:blipFill>
        <p:spPr>
          <a:xfrm>
            <a:off x="1163520" y="3716280"/>
            <a:ext cx="5446800" cy="10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54-3"/>
          <p:cNvPicPr/>
          <p:nvPr/>
        </p:nvPicPr>
        <p:blipFill>
          <a:blip r:embed="rId4"/>
          <a:stretch/>
        </p:blipFill>
        <p:spPr>
          <a:xfrm>
            <a:off x="2432160" y="2349360"/>
            <a:ext cx="298764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矩形 10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1"/>
          <p:cNvSpPr/>
          <p:nvPr/>
        </p:nvSpPr>
        <p:spPr>
          <a:xfrm>
            <a:off x="5219640" y="2637000"/>
            <a:ext cx="3279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581120" y="2637000"/>
            <a:ext cx="3743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92040" y="1619280"/>
            <a:ext cx="5116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计算并写出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645240" y="2637000"/>
            <a:ext cx="892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170320" y="3213000"/>
            <a:ext cx="3603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二得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1494000" y="3214800"/>
            <a:ext cx="3346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三得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70080" y="2637000"/>
            <a:ext cx="79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579680" y="4508640"/>
            <a:ext cx="338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218200" y="4537080"/>
            <a:ext cx="2954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r>
              <a:rPr b="0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3051000" y="4494240"/>
            <a:ext cx="797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1492200" y="5084640"/>
            <a:ext cx="3390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五二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6724800" y="4533840"/>
            <a:ext cx="7617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170320" y="5084640"/>
            <a:ext cx="3251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三得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6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9" descr="54-4"/>
          <p:cNvPicPr/>
          <p:nvPr/>
        </p:nvPicPr>
        <p:blipFill>
          <a:blip r:embed="rId1"/>
          <a:stretch/>
        </p:blipFill>
        <p:spPr>
          <a:xfrm>
            <a:off x="1258920" y="2316240"/>
            <a:ext cx="2924280" cy="1361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口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92040" y="1619280"/>
            <a:ext cx="4756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看图直接说口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1355760" y="3789360"/>
            <a:ext cx="191916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三得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003640" y="3789360"/>
            <a:ext cx="189576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三得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352520" y="5734080"/>
            <a:ext cx="192564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二得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5002200" y="5732640"/>
            <a:ext cx="1914480" cy="569160"/>
          </a:xfrm>
          <a:prstGeom prst="rect">
            <a:avLst/>
          </a:prstGeom>
          <a:solidFill>
            <a:srgbClr val="cd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五十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4"/>
          <p:cNvGrpSpPr/>
          <p:nvPr/>
        </p:nvGrpSpPr>
        <p:grpSpPr>
          <a:xfrm>
            <a:off x="4122720" y="1604880"/>
            <a:ext cx="4336560" cy="2400480"/>
            <a:chOff x="4122720" y="1604880"/>
            <a:chExt cx="4336560" cy="2400480"/>
          </a:xfrm>
        </p:grpSpPr>
        <p:pic>
          <p:nvPicPr>
            <p:cNvPr id="125" name="Picture 41" descr="{A700E4EA-2651-4D2A-8896-D0E52C8D9FDC}"/>
            <p:cNvPicPr/>
            <p:nvPr/>
          </p:nvPicPr>
          <p:blipFill>
            <a:blip r:embed="rId2"/>
            <a:stretch/>
          </p:blipFill>
          <p:spPr>
            <a:xfrm>
              <a:off x="4122720" y="1604880"/>
              <a:ext cx="238428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42" descr="{A700E4EA-2651-4D2A-8896-D0E52C8D9FDC}"/>
            <p:cNvPicPr/>
            <p:nvPr/>
          </p:nvPicPr>
          <p:blipFill>
            <a:blip r:embed="rId3"/>
            <a:stretch/>
          </p:blipFill>
          <p:spPr>
            <a:xfrm>
              <a:off x="5097240" y="1612800"/>
              <a:ext cx="2383920" cy="23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3" descr="{A700E4EA-2651-4D2A-8896-D0E52C8D9FDC}"/>
            <p:cNvPicPr/>
            <p:nvPr/>
          </p:nvPicPr>
          <p:blipFill>
            <a:blip r:embed="rId4"/>
            <a:stretch/>
          </p:blipFill>
          <p:spPr>
            <a:xfrm>
              <a:off x="6075000" y="1621080"/>
              <a:ext cx="2384280" cy="238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47"/>
          <p:cNvGrpSpPr/>
          <p:nvPr/>
        </p:nvGrpSpPr>
        <p:grpSpPr>
          <a:xfrm>
            <a:off x="1042920" y="4065480"/>
            <a:ext cx="3052800" cy="1884600"/>
            <a:chOff x="1042920" y="4065480"/>
            <a:chExt cx="3052800" cy="1884600"/>
          </a:xfrm>
        </p:grpSpPr>
        <p:pic>
          <p:nvPicPr>
            <p:cNvPr id="129" name="Picture 45" descr="{A1FC7C75-1771-4C71-B180-1E9DA2597B2F}"/>
            <p:cNvPicPr/>
            <p:nvPr/>
          </p:nvPicPr>
          <p:blipFill>
            <a:blip r:embed="rId5"/>
            <a:stretch/>
          </p:blipFill>
          <p:spPr>
            <a:xfrm>
              <a:off x="1042920" y="4065480"/>
              <a:ext cx="1873440" cy="18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6" descr="{A1FC7C75-1771-4C71-B180-1E9DA2597B2F}"/>
            <p:cNvPicPr/>
            <p:nvPr/>
          </p:nvPicPr>
          <p:blipFill>
            <a:blip r:embed="rId6"/>
            <a:stretch/>
          </p:blipFill>
          <p:spPr>
            <a:xfrm>
              <a:off x="2222640" y="4076640"/>
              <a:ext cx="1873080" cy="187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51"/>
          <p:cNvGrpSpPr/>
          <p:nvPr/>
        </p:nvGrpSpPr>
        <p:grpSpPr>
          <a:xfrm>
            <a:off x="4782960" y="4581360"/>
            <a:ext cx="3632040" cy="1285560"/>
            <a:chOff x="4782960" y="4581360"/>
            <a:chExt cx="3632040" cy="1285560"/>
          </a:xfrm>
        </p:grpSpPr>
        <p:pic>
          <p:nvPicPr>
            <p:cNvPr id="132" name="Picture 48" descr="{F414191B-3EAD-4134-87DB-8D532B1B9327}"/>
            <p:cNvPicPr/>
            <p:nvPr/>
          </p:nvPicPr>
          <p:blipFill>
            <a:blip r:embed="rId7"/>
            <a:stretch/>
          </p:blipFill>
          <p:spPr>
            <a:xfrm>
              <a:off x="4782960" y="4581360"/>
              <a:ext cx="138708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49" descr="{F414191B-3EAD-4134-87DB-8D532B1B9327}"/>
            <p:cNvPicPr/>
            <p:nvPr/>
          </p:nvPicPr>
          <p:blipFill>
            <a:blip r:embed="rId8"/>
            <a:stretch/>
          </p:blipFill>
          <p:spPr>
            <a:xfrm>
              <a:off x="5889240" y="4581360"/>
              <a:ext cx="1387080" cy="12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0" descr="{F414191B-3EAD-4134-87DB-8D532B1B9327}"/>
            <p:cNvPicPr/>
            <p:nvPr/>
          </p:nvPicPr>
          <p:blipFill>
            <a:blip r:embed="rId9"/>
            <a:stretch/>
          </p:blipFill>
          <p:spPr>
            <a:xfrm>
              <a:off x="7027920" y="4590000"/>
              <a:ext cx="1387080" cy="127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19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一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0" y="657216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18:44Z</dcterms:created>
  <dc:creator>PC</dc:creator>
  <dc:description/>
  <dc:language>en-US</dc:language>
  <cp:lastModifiedBy>万润仪器贸易公司</cp:lastModifiedBy>
  <dcterms:modified xsi:type="dcterms:W3CDTF">2018-09-01T10:18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